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F6E-5D29-454E-AEEC-BD4EBC20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11E-1EA3-4694-BC28-AD657126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358-1E2C-45A8-AC27-80AA82D6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972-B513-4176-A07B-F0FD5EF0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878-319E-46F3-AFB5-2795D391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15C-B0F2-48C7-945F-EB817DF0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8EB-4679-4362-9375-F0F00C08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828-276E-48DD-8775-15758FAB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70D-993A-4C19-A918-C9E276D7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BDA-8A49-4313-B549-0457C041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753-3BDB-4ADB-BB31-3EB562F6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CD3-5747-435E-9373-F102687A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B09BEB-CA5E-469D-9A64-DB56F5A2A1B9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3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cal Linear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reating a contrast matrix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 &lt;- diag(4)[1:3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[col(M) - row(M) == 1] &lt;- -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                  </a:t>
            </a:r>
            <a:r>
              <a:rPr b="0" lang="en-AU" sz="1800" spc="-1" strike="noStrike">
                <a:solidFill>
                  <a:srgbClr val="ff0000"/>
                </a:solidFill>
                <a:latin typeface="Courier New"/>
              </a:rPr>
              <a:t># Desired meaning of contrast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,1] [,2] [,3] [,4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,]    1   -1    0 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2,]    0    1   -1 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3,]    0    0    1   -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0 &lt;- fractions(ginv(M))          </a:t>
            </a:r>
            <a:r>
              <a:rPr b="0" lang="en-AU" sz="1800" spc="-1" strike="noStrike">
                <a:solidFill>
                  <a:srgbClr val="ff0000"/>
                </a:solidFill>
                <a:latin typeface="Courier New"/>
              </a:rPr>
              <a:t># matrix to us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,1] [,2] [,3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,]  3/4  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2,] -1/4  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3,] -1/4 -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4,] -1/4 -1/2 -3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DEE-DF10-4A7C-8F2D-2DB7FB3278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implified function for the job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ntrsdif &lt;- function(n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X &lt;- diag(n)[1:(n-1), 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X &lt;- X - cbind(0, X[, -n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inv(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ractions(contrsdif(5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,1] [,2] [,3] [,4]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,]  4/5  3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2,] -1/5  3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3,] -1/5 -2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4,] -1/5 -2/5 -3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5,] -1/5 -2/5 -3/5 -4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ttr(, "rank")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] 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e the MASS function contr.sdif for a more bullet-proof vers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CF7-6714-4D40-97D7-72E14E62D15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unbalanced 4-way classific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in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data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: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# of days absent from school in a yea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fying factor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Four levels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th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Aboriginal or Non-aborigin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r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low or Averag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x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Male or Fema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: Construct a linear model to describe the differences in behaviour between the groups so defin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F39-7E1E-4701-8DB9-E525711143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extent of the imbalance: Design issu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with(quine, table(Lrn, Age, Sex, Eth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F, A          , , F, N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0 F1 F2 F3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F0 F1 F2 F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L  4  5  1  9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AL  4  6  1 1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L  1 10  8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SL  1 11  9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M, A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M, N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0 F1 F2 F3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F0 F1 F2 F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L  5  2  7  7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AL  6  2  7  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L  3  3  4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SL  3  7  3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68D-823B-4E3A-9D81-7FA1BD1D0B7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ell variances vs cell mea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Means &lt;- with(quine, tapply(Days, list(Eth, Sex,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ge, Lrn), mean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Vars  &lt;- with(quine, tapply(Days, list(Eth, Sex,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ge, Lrn), var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SD &lt;- sqrt(Var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 2), pty=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Means, Vars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lab = "Cell Means", ylab = "Cell Variance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Means, SD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lab = "Cell Means", ylab = "Cell Std Devn.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149-CE01-4028-85A6-702EA1F103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24819" r="0" b="16619"/>
          <a:stretch/>
        </p:blipFill>
        <p:spPr>
          <a:xfrm>
            <a:off x="250920" y="549360"/>
            <a:ext cx="8642160" cy="50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24D-330A-424E-B014-FD4D7133A43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x-Cox  or log(y + c) transform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28061" r="0" b="22570"/>
          <a:stretch/>
        </p:blipFill>
        <p:spPr>
          <a:xfrm>
            <a:off x="1290600" y="3429000"/>
            <a:ext cx="65628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3128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=c(1,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oxcox(Days+1 ~ Eth*Sex*Age*Lrn, data = quine, singular.ok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ambda = seq(-0.05, 0.45, len = 20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ogtrans(Days ~ Age*Sex*Eth*Lrn, data = quine, xlab=expression(alpha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lpha = seq(0.75, 6.5, len = 20), singular.ok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250-321F-4103-98A1-02E812AE74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s and backwards elimin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hi &lt;- aov(log(Days + 2.5) ~ Eth*Sex*Age*Lrn, quin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xt &lt;- update(quine.hi, . ~ . - Eth:Sex: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xt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og(Days + 2.5) ~ Age + Sex + Eth + Lrn + Age:Sex + Age:Eth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Eth + Age:Lrn + Sex:Lrn + Eth:Lrn + Age:Sex:Eth + Age:Sex:Lrn + Age:Eth:Lrn + Sex:Eth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RSS     AIC F Value   Pr(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      64.099 -68.184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Sex:Eth  3     0.974  65.073 -71.982   0.608 0.611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Sex:Lrn  2     1.466  65.565 -68.882   1.372 0.2574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Eth:Lrn  2     2.128  66.227 -67.415   1.992 0.1408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Eth:Lrn  1     1.579  65.678 -66.631   2.956 0.088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3C8-1F9E-44CE-9166-ACA14E64967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orward sele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lo ~ aov(log(Days+2.5) ~ 1, quin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ddterm(quine.lo, quine.hi, test = "F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ingle term addition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og(Days + 2.5) ~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&lt;none&gt;              106.787 -43.664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ge     3     4.747 102.040 -44.303   2.202 0.090480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x     1     0.597 106.190 -42.483   0.809 0.369805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th     1    10.682  96.105 -57.052  16.006 0.0001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rn     1     0.004 106.783 -41.670   0.006 0.939208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D7C-556F-46D0-815F-70783DD428F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utomated sele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stp &lt;- stepAIC(quine.nxt, scope = list(upper =  ~ Eth * Sex * Age * Lrn, lower =  ~ 1), trace = FAL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mmary(quine.stp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AU" sz="16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Df Sum Sq Mean Sq F value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           3  4.747   1.582  2.9698  0.03447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           1  0.255   0.255  0.4777  0.49072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Eth           1 10.069  10.069 18.8978 2.829e-0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Lrn           1  0.653   0.653  1.2254  0.2704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Sex       3  8.816   2.939  5.5152  0.00137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Eth       3  5.835   1.945  3.6504  0.01449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Eth       1  0.009   0.009  0.0173  0.89563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Lrn       2  2.886   1.443  2.7082  0.07056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Lrn       1  0.029   0.029  0.0542  0.81637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Eth:Lrn       1  0.099   0.099  0.1852  0.66766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Eth:Lrn   2  3.759   1.880  3.5277  0.03233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Eth:Lrn   1  3.032   3.032  5.6916  0.01854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iduals   125 66.600   0.533</a:t>
            </a:r>
            <a:r>
              <a:rPr b="0" lang="en-AU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0D8-3749-4161-8F11-1AB12BE853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gression with factor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parate quadratic regressions within the level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parate linear regressions within the level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arallel linear regressions within the levels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mmon linear regression (ignoring the factor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regression at al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xample: the Whiteside data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05A-13D8-4920-9E29-02E41FBBDB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urther refinemen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stp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3 &lt;- update(quine.stp, . ~ . - Eth: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3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4 &lt;- update(quine.3, . ~ . - Eth:Ag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4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5 &lt;- update(quine.4, . ~ . - 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5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log(Days + 2.5) ~ Eth + Sex + Age + Lrn + Eth:Sex + Eth:Lrn + Sex:Age + Sex:Lrn + Eth:Sex:Lrn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Df Sum of Sq      RSS       AIC  F Value  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&lt;none&gt;              74.63858 -69.95858  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Sex:Age  3  9.900204 84.53878 -57.77385  5.83624 0.00089437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Eth:Sex:Lrn  1  6.298792 80.93737 -60.12993 11.13956 0.00109819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0E6-CD6F-4E35-B6FD-EB84C525BB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BIC penalty on complexit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bic &lt;- stepAIC(quine.nxt, k = log(nrow(quine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cope = list(upper=~Eth*Sex*Age*Lrn,lower=~1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bic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log(Days + 2.5) ~ Eth + Sex + Age + Lrn + Eth:Sex + Eth:Lrn +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+ Sex:Lrn + Eth:Sex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Df Sum of Sq      RSS       AIC  F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&lt;none&gt;              74.63858 -69.95858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 3  9.900204 84.53878 -57.77385  5.8362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Eth:Sex:Lrn  1  6.298792 80.93737 -60.12993 11.1395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        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Pr(F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&lt;none&gt;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0.00089437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Eth:Sex:Lrn 0.00109819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A63-B543-4430-B781-825E4049CE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terpretation of fin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be written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og(Y + 2.5) ~ Sex/(Age + Eth*Lr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two sexes behave different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in each sex, however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th*Lr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ct additively in this sca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t much simplification, but som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10C-36AC-4C22-84EB-86CC1CDAC1A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ercise: The Boston house pric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Consult the help information for the Boston house price data from he MASS librar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Construct a model describing the median house-price (variable medv) in terms of the other variables give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Prune the model using standard AIC.  Compare the result with that using BIC as the fit criter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Do the standard diagnostic tests indicate any possible reasons for concern with the analysis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How would you investigate whether or not two-term interactions between the predictors may be needed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What about quadratic terms as well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Report your conclusion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248-BB24-4B62-AC0A-888250B6577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95640" y="404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1773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306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414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407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5157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850920" y="4941360"/>
            <a:ext cx="28908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859280" y="4941360"/>
            <a:ext cx="28908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858920" y="3860280"/>
            <a:ext cx="36036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51280" y="3933360"/>
            <a:ext cx="28728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27640" y="2707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00720" y="14130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1800" y="6206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/poly(Temp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5800" y="20606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/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3284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 + 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2720" y="43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1280" y="443700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(not conside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1080" y="544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33840" y="227664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A lattice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A42-1DCD-4142-91F0-D9A87CC87ED4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equence of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Fit the sequence of model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q2 &lt;- aov(Gas ~ Insul/poly(Temp, 2)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2 &lt;- aov(Gas ~ Insul/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 &lt;- aov(Gas ~ Insul + 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0 &lt;- aov(Gas ~ 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0 &lt;- aov(Gas ~ 1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Test each within the next in the sequence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white.lm0, white.lml0, white.lml, white.lml2, white.lmq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E48-4CA4-4169-8EEB-8EF694553E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alysis of Variance tab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1: Gas ~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2: Gas ~ 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3: Gas ~ Insul + 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4: Gas ~ Insul/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5: Gas ~ Insul/poly(Temp,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.Df    RSS Df Sum of Sq        F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1     55 75.014       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     54 39.995  1    35.019 359.4189 &lt; 2.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3     53  6.770  1    33.224 340.9968 &lt; 2.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4     52  5.425  1     1.345  13.8057 0.00051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5     50</a:t>
            </a:r>
            <a:r>
              <a:rPr b="1" lang="en-AU" sz="1600" spc="-1" strike="noStrike">
                <a:solidFill>
                  <a:srgbClr val="000099"/>
                </a:solidFill>
                <a:latin typeface="Arial Unicode MS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4.8720  2     0.554   2.8408 0.067836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898-785D-4BBF-AF1D-8519F2D1C40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Quadratic terms within the level of the insulation factor are unnecessary (apparently!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regressions apply within the level of the insulation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lopes are different: stop at </a:t>
            </a:r>
            <a:r>
              <a:rPr b="0" lang="en-GB" sz="2400" spc="-1" strike="noStrike">
                <a:solidFill>
                  <a:srgbClr val="000099"/>
                </a:solidFill>
                <a:latin typeface="Courier New"/>
              </a:rPr>
              <a:t>Insul/Tem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sulation makes a difference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E8E-9A66-46AB-B36D-1B108CBA3D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erci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nduct a similar analysis for the Birthwt data set and report your conclus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Plot the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oes there appear to be any variance heterogeneity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From your analysis, what linear model most plausibly describes the situation generating the data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s there a systematic difference in size between girls and boys?  Explain briefl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550-F545-4684-8CE7-C4D7339B16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note on contrast matric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actor variables generate terms in the model matrix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way in which most people are familiar is to start with a redundant binary representation and drop columns to remove the redundancy.  e.g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ut                  and then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corresponds to removing the first column corresponding to the alpha term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ther resolutions are possible (and used).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3357720"/>
          <a:ext cx="39592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357720"/>
                    <a:ext cx="39592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692360" y="4221000"/>
          <a:ext cx="1224000" cy="4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221000"/>
                    <a:ext cx="12240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356000" y="4221000"/>
          <a:ext cx="446400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221000"/>
                    <a:ext cx="44640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9AD-778C-4D32-8F01-214A281664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ore on contrast matric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V&amp;R page 146 ff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ontr.helmert(4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# contrast matrix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,1] [,2] [,3]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1   -1   -1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2    1   -1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    0    2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4    0    0    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ractions(ginv(contr.helmert(4))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# meaning of estimate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,1]  [,2]  [,3]  [,4]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,]  -1/2   1/2     0  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2,]  -1/6  -1/6   1/3  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3,] -1/12 -1/12 -1/12   1/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28E-FA3F-4B29-A3C6-00889D8705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9T02:22:30Z</dcterms:modified>
  <cp:revision>21</cp:revision>
  <dc:subject/>
  <dc:title>S-PLUS, An Introduction to the System</dc:title>
</cp:coreProperties>
</file>